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7569-BCC0-4259-B462-ADD2AA99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EBBA-9AC6-41DB-9763-48844C9D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B247-0B61-45B6-B401-789A1DE3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0DF9-A972-4186-9EDE-55D98BBA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28A6-60F4-40A8-8A1D-6B48F553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CC3D-5075-4801-AB31-C0443A27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2A3D-BB9C-4541-9AB5-DB5B9F09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3B71-8BBC-474E-85C5-34A162A6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F15A-56B5-4F6A-8E71-359019F7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3A3-B54D-4E14-A95A-F77C8E54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2397-C969-4521-8427-294FFFD4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DC89-5CA0-4431-AB85-CA29A34F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F49F-F151-4B98-B6E9-25374E10B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images.alot.com/res?src_id=11347&amp;camp_id=978&amp;tb_version=2.5.4.463&amp;pr=tbar&amp;client_id=D48A60A001CA4D633B41FCF7&amp;install_time=2009-10-15T01%3A50%3A00%2B0000&amp;q=peace++now++israel&amp;page=0&amp;imgUrl=http%3A%2F%2Flrd.yahooapis.com%2F_ylc%3DX3oDMTVnNDRpY200BF9TAzIwMjMxNTI3MDIEYXBwaWQDZDBwTVFfdlYzNEY0VkJTVmhIcXAyV1F6UjRCTElKVjRfNUtLNU5GMWZBcnQxaFhnUjVvVEs0ZFZyd1d3cmh2VEJmNWpuQS0tBGNsaWVudANib3NzBHNlcnZpY2UDQk9TUwRzbGsDdGl0bGUEc3JjcHZpZANScE00NG1LSWNycV9RVXF6elk2bWJWRHEwRXdMYVVybW50RUFCa3NY%2FSIG%3D11p8mifof%2F%2A%2Ahttp%253A%2F%2Fstatic.flickr.com%2F44%2F110202877_039dd92fbf.jpg&amp;url=http%3A%2F%2Fstatic.flickr.com%2F44%2F110202877_039dd92fbf.jpg&amp;sourceUrl=http%3A%2F%2Fwww.flickr.com%2Fphotos%2Fgyuval%2F110202877%2F&amp;thumbUrl=http%3A%2F%2Fthm-a01.yimg.com%2Fimage%2F5283cb4eb192bf24&amp;name=110202877+039dd92fbf+jpg&amp;detail=500+x+332+%7C+180.9kB&amp;thumbH=96&amp;thumbW=145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lrd.yahooapis.com/_ylc=X3oDMTVnMjVuaGNmBF9TAzIwMjMxNTI3MDIEYXBwaWQDZDBwTVFfdlYzNEY0VkJTVmhIcXAyV1F6UjRCTElKVjRfNUtLNU5GMWZBcnQxaFhnUjVvVEs0ZFZyd1d3cmh2VEJmNWpuQS0tBGNsaWVudANib3NzBHNlcnZpY2UDQk9TUwRzbGsDdGl0bGUEc3JjcHZpZANiMUl2em1LSWNycnhWeXdfWEdYNncyX3kwRXdMZWtybW14OEFBMHhh/SIG=11nfhd8sd/**http%3A//www.goodnessdirect.co.uk/detail/714625b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lrd.yahooapis.com/_ylc=X3oDMTVnMjVuaGNmBF9TAzIwMjMxNTI3MDIEYXBwaWQDZDBwTVFfdlYzNEY0VkJTVmhIcXAyV1F6UjRCTElKVjRfNUtLNU5GMWZBcnQxaFhnUjVvVEs0ZFZyd1d3cmh2VEJmNWpuQS0tBGNsaWVudANib3NzBHNlcnZpY2UDQk9TUwRzbGsDdGl0bGUEc3JjcHZpZANiMUl2em1LSWNycnhWeXdfWEdYNncyX3kwRXdMZWtybW14OEFBMHhh/SIG=11q23u26q/**http%3A//us.inmagine.com/img/pixtal/pts000/WE000036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rd.yahooapis.com/_ylc=X3oDMTVnaW5mMWxiBF9TAzIwMjMxNTI3MDIEYXBwaWQDZDBwTVFfdlYzNEY0VkJTVmhIcXAyV1F6UjRCTElKVjRfNUtLNU5GMWZBcnQxaFhnUjVvVEs0ZFZyd1d3cmh2VEJmNWpuQS0tBGNsaWVudANib3NzBHNlcnZpY2UDQk9TUwRzbGsDdGl0bGUEc3JjcHZpZANicXdVOEdLSWNyckhSbU5sTUY1TlZIQzkwRXdMYlVybW04c0FCRkh0/SIG=12ifq04un/**http%3A//www.tropicana.com/TRP_ProductInformation/images/pa_GrapefruitJuice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מה  נשמע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59817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רימונ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מיץ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657600" y="2362320"/>
            <a:ext cx="4762440" cy="3743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200400" y="1596960"/>
            <a:ext cx="537228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תודה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505320" y="1905120"/>
            <a:ext cx="3870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א  </a:t>
            </a:r>
            <a:r>
              <a:rPr b="0" lang="he-IL" sz="4000" spc="-1" strike="noStrike" u="sng">
                <a:solidFill>
                  <a:srgbClr val="000000"/>
                </a:solidFill>
                <a:uFillTx/>
                <a:latin typeface="Arial"/>
              </a:rPr>
              <a:t>רוצ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שלו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T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90920" y="2590920"/>
            <a:ext cx="476244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יא     </a:t>
            </a:r>
            <a:r>
              <a:rPr b="0" lang="he-IL" sz="4000" spc="-1" strike="noStrike" u="sng">
                <a:solidFill>
                  <a:srgbClr val="000000"/>
                </a:solidFill>
                <a:uFillTx/>
                <a:latin typeface="Arial"/>
              </a:rPr>
              <a:t>רוצ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שלו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TZ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44860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ם  </a:t>
            </a: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רוצ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שלו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38280" y="2009880"/>
            <a:ext cx="5334120" cy="4000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3657600"/>
            <a:ext cx="243864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קצ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  מ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הרב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 מ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62320" y="1876320"/>
            <a:ext cx="541008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e-IL" sz="4000" spc="-1" strike="noStrike">
                <a:solidFill>
                  <a:srgbClr val="000000"/>
                </a:solidFill>
                <a:latin typeface="Arial"/>
              </a:rPr>
              <a:t>הרבה</a:t>
            </a:r>
            <a:r>
              <a:rPr b="1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3543480" cy="2657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76920" y="2933640"/>
            <a:ext cx="3695760" cy="2772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419720" y="525600"/>
            <a:ext cx="68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93160" y="1652760"/>
            <a:ext cx="2307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קצת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קפה  </a:t>
            </a:r>
            <a:r>
              <a:rPr b="1" lang="he-IL" sz="5400" spc="-1" strike="noStrike" u="sng">
                <a:solidFill>
                  <a:srgbClr val="000000"/>
                </a:solidFill>
                <a:uFillTx/>
                <a:latin typeface="Arial"/>
              </a:rPr>
              <a:t>ע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חלב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114800" cy="3825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34578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קפה  </a:t>
            </a:r>
            <a:r>
              <a:rPr b="1" lang="he-IL" sz="6600" spc="-1" strike="noStrike" u="sng">
                <a:solidFill>
                  <a:srgbClr val="000000"/>
                </a:solidFill>
                <a:uFillTx/>
                <a:latin typeface="Arial"/>
              </a:rPr>
              <a:t>בלי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חלב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I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47628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מה    נשמע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89240" y="1600200"/>
            <a:ext cx="636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קפה   __ __   חל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עם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267080" y="1523880"/>
            <a:ext cx="34578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קפה  __ __ __  חל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בלי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05320" y="2286000"/>
            <a:ext cx="463392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000000"/>
                </a:solidFill>
                <a:latin typeface="Arial"/>
              </a:rPr>
              <a:t>הרבה</a:t>
            </a:r>
            <a:r>
              <a:rPr b="1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    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מים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קצת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    __ __  __ 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000000"/>
                </a:solidFill>
                <a:latin typeface="Arial"/>
              </a:rPr>
              <a:t>רק    רגע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1911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תודה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05320" y="1905120"/>
            <a:ext cx="3870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תפוז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מיץ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14840" y="2719440"/>
            <a:ext cx="31035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   __ __ __ __ ?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מה  נשמע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62520" y="3505320"/>
            <a:ext cx="438624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חיפה  __ __ __  יפ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עיר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4762440" cy="3171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80880" y="328608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מסעדה</a:t>
            </a: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62520" y="2209680"/>
            <a:ext cx="5181480" cy="3451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339084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רק   רגע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038480" y="2057400"/>
            <a:ext cx="2840040" cy="4495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2590920"/>
            <a:ext cx="3276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סעד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86000" y="1936800"/>
            <a:ext cx="51814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מסעדה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657600" y="2743200"/>
            <a:ext cx="51814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מסעדה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657600" y="29718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סליחה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495680" y="2666880"/>
            <a:ext cx="4334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תה  __ __ __ __   קפ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שותה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28130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ת  __ __ __ __   חל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שותה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38480" y="2971800"/>
            <a:ext cx="43815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?  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לסבתא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לאן</a:t>
            </a: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886200" y="2104920"/>
            <a:ext cx="4200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רים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962520" y="2209680"/>
            <a:ext cx="4781520" cy="42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שרות</a:t>
            </a: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4762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יר  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"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שירים</a:t>
            </a: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143000" y="3276720"/>
            <a:ext cx="5334120" cy="3171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629400" y="1143000"/>
            <a:ext cx="220032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   __  __ __  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רק   רגע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ם  __ __ __ __ __  שלו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רוצים</a:t>
            </a: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702320" y="1752480"/>
            <a:ext cx="3214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ן  __ __ __ __ __    חופש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MEN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רוצות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27417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את  __ __ __ __  יפ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עוגה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48320" y="1951200"/>
            <a:ext cx="38862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יא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_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משוגעת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562720" y="2057400"/>
            <a:ext cx="28828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קר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משהו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114880" y="1600200"/>
            <a:ext cx="25146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מצויין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257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כן  או ......  לא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אולי</a:t>
            </a: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07980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תם __ __ __ __ __  סלט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עושים</a:t>
            </a: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419720" y="1828800"/>
            <a:ext cx="406692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תן  __ __ __ __ __  לח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עושות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396252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וא " __ __ __ __    חיים "  ב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600" spc="-1" strike="noStrike">
                <a:solidFill>
                  <a:srgbClr val="000000"/>
                </a:solidFill>
                <a:latin typeface="Arial"/>
              </a:rPr>
              <a:t>עושה</a:t>
            </a:r>
            <a:r>
              <a:rPr b="0" lang="he-IL" sz="9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715000" y="2590920"/>
            <a:ext cx="211464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חיפה  </a:t>
            </a:r>
            <a:r>
              <a:rPr b="0" lang="he-IL" sz="6600" spc="-1" strike="noStrike" u="sng">
                <a:solidFill>
                  <a:srgbClr val="000000"/>
                </a:solidFill>
                <a:uFillTx/>
                <a:latin typeface="Arial"/>
              </a:rPr>
              <a:t>עיר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 יפה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47624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 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גבר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!!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600" spc="-1" strike="noStrike">
                <a:solidFill>
                  <a:srgbClr val="000000"/>
                </a:solidFill>
                <a:latin typeface="Arial"/>
              </a:rPr>
              <a:t>רק</a:t>
            </a:r>
            <a:r>
              <a:rPr b="0" lang="he-IL" sz="9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276720" y="2152800"/>
            <a:ext cx="51051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RA SINGS A HAPPY SO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שרה  שרה  שיר  שמח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895480" y="2019240"/>
            <a:ext cx="396252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יקאגו  גם  </a:t>
            </a: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עיר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יפ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90544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מיץ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 תפוז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מיץ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לימו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981080"/>
            <a:ext cx="3352680" cy="3353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2057400"/>
            <a:ext cx="329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שכוליו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מיץ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666880"/>
            <a:ext cx="36576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7:00:21Z</dcterms:created>
  <dc:creator>Preferred Customer</dc:creator>
  <dc:description/>
  <dc:language>en-US</dc:language>
  <cp:lastModifiedBy>aschlezinger</cp:lastModifiedBy>
  <dcterms:modified xsi:type="dcterms:W3CDTF">2010-11-04T20:53:08Z</dcterms:modified>
  <cp:revision>6</cp:revision>
  <dc:subject/>
  <dc:title>מה  נשמע  ?  </dc:title>
</cp:coreProperties>
</file>